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51D-7B31-4FB5-8358-86C7BA9A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C78-5936-4421-8A97-0E1693A8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045-B602-4F75-9354-B4664536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387-3FB9-45DE-ADD2-3F12DFCE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71D-D815-4581-979B-7828A527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D60-31FA-4698-B5D4-DB65A490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05D-43DE-431A-B01F-2547FEE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078-4CA3-405F-BA04-EF9EAA4E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BAA-458D-4DD3-B3AE-F6FCEF60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776-AB07-4B8D-AAAE-6A2D943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787-F235-4E0F-BA0B-5435E54C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5F6-5480-40B4-9A0F-315C847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C28D-8F07-4799-9368-33D8D54B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2120" y="3048120"/>
            <a:ext cx="844092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2b29"/>
                </a:solidFill>
                <a:latin typeface="Times New Roman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Offers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   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ree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   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ree Exc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   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ree Power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You are not saving to a computer.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You are saving to the Intern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9760" y="1820520"/>
            <a:ext cx="966312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cooles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aspect of GoogleDocs is that multiple people can work on it at the same time.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Unfortunately, due to security you cannot sign-up for GoogleDocs at school with overriding the filter.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ut, if you sign-up for it at home you can use it at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 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ff"/>
                </a:solidFill>
                <a:latin typeface="Times New Roman"/>
              </a:rPr>
              <a:t>To sign-up you need an active email address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